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11.png" ContentType="image/png"/>
  <Override PartName="/ppt/media/image1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7446-EAE5-442B-8785-F12BE7C63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CC67-F0C9-471A-9F80-A404D97F0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C9DF-8647-4756-8B0E-EF3EE58D1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433E-4EAB-4751-9AFB-5638ED6FE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A1DB-CBDC-4559-815B-ECF531B5A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914B-6683-4A2D-9744-D826D7A3E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D51B-E8E8-4FD8-BDC8-A79EBAAA5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1C5B-D835-4D33-808A-90EDC319F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A3A0-95E5-4149-94D3-6AD8A1FA8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0777-6667-47CB-946E-D1B6F69B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A0E8-2E61-4105-B912-A99D2894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C18F-C860-4466-9C7A-8339BA1E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Verdan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CBDC3-8468-4DA0-8E98-FCA2D3EABD09}" type="slidenum">
              <a:rPr b="0" lang="en-US" sz="1400" spc="-1" strike="noStrike">
                <a:solidFill>
                  <a:srgbClr val="ffff66"/>
                </a:solidFill>
                <a:latin typeface="Verdan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Las Canchas de Pelota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La ubicacion y su arquitectura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66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Verdana"/>
              </a:rPr>
              <a:t>Por Megan Herrera, Kevin Valdes y Michael Stone</a:t>
            </a:r>
            <a:endParaRPr b="0" lang="en-US" sz="18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?Que es el juego?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495320" y="1447920"/>
            <a:ext cx="4343400" cy="44956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El juego de los Mayas era una combinacíon de basketbol, voleibol, y futbol. 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Dos equipos jugaban contra uno al otro.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88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9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90" name="Picture 6" descr="Unknown"/>
          <p:cNvPicPr/>
          <p:nvPr/>
        </p:nvPicPr>
        <p:blipFill>
          <a:blip r:embed="rId1"/>
          <a:stretch/>
        </p:blipFill>
        <p:spPr>
          <a:xfrm>
            <a:off x="762120" y="1981080"/>
            <a:ext cx="3087720" cy="35053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440" y="685800"/>
            <a:ext cx="3809880" cy="5410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Originalmente el juego era de solamente una pelota cedando en el juego, pero en tiempo pusieron dos añillos de piedra en cada lado de la cancha. 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92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3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94" name="Picture 6" descr="Unknown-1"/>
          <p:cNvPicPr/>
          <p:nvPr/>
        </p:nvPicPr>
        <p:blipFill>
          <a:blip r:embed="rId1"/>
          <a:stretch/>
        </p:blipFill>
        <p:spPr>
          <a:xfrm>
            <a:off x="4800600" y="1981080"/>
            <a:ext cx="3809880" cy="312444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p:transition>
    <p:comb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4648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El Juego Hoy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8840" y="990360"/>
            <a:ext cx="3809880" cy="51051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Con eso nuevo atributo a la cancha el juego se cambio. Ahora el juego es de pegar la pelota entre el anillo para un punto.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97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8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99" name="Picture 6" descr="Unknown-2"/>
          <p:cNvPicPr/>
          <p:nvPr/>
        </p:nvPicPr>
        <p:blipFill>
          <a:blip r:embed="rId1"/>
          <a:stretch/>
        </p:blipFill>
        <p:spPr>
          <a:xfrm>
            <a:off x="380880" y="2057400"/>
            <a:ext cx="4540320" cy="301932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p:transition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La Pelota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3809880" cy="4724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En el juego tenia una pelota de hule. El tamaño de la pelota  era diferente en todo de Mesoamerica.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02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3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04" name="Picture 6" descr="Unknown"/>
          <p:cNvPicPr/>
          <p:nvPr/>
        </p:nvPicPr>
        <p:blipFill>
          <a:blip r:embed="rId1"/>
          <a:stretch/>
        </p:blipFill>
        <p:spPr>
          <a:xfrm>
            <a:off x="4800600" y="2438280"/>
            <a:ext cx="3809880" cy="255924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4343400" cy="9903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El Equipo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28840" y="533160"/>
            <a:ext cx="3809880" cy="55623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Durante el juego estaban vestidosa en goras bonitas, tenían ropa cubriendo su pecho, cuello, cadera y codos.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Con todo eso lo protegio los jugadores.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07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09" name="Picture 6" descr="Unknown-1"/>
          <p:cNvPicPr/>
          <p:nvPr/>
        </p:nvPicPr>
        <p:blipFill>
          <a:blip r:embed="rId1"/>
          <a:stretch/>
        </p:blipFill>
        <p:spPr>
          <a:xfrm>
            <a:off x="533520" y="1600200"/>
            <a:ext cx="3809880" cy="386064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p:transition spd="med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9047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66"/>
                </a:solidFill>
                <a:latin typeface="Verdana"/>
              </a:rPr>
              <a:t>Fin</a:t>
            </a:r>
            <a:endParaRPr b="1" lang="en-US" sz="66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11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13" name="Picture 2" descr="http://www.mexconnect.com/assets/0000/2988/maya19_medium.jpg?1234372345"/>
          <p:cNvPicPr/>
          <p:nvPr/>
        </p:nvPicPr>
        <p:blipFill>
          <a:blip r:embed="rId1"/>
          <a:stretch/>
        </p:blipFill>
        <p:spPr>
          <a:xfrm>
            <a:off x="1752480" y="2819520"/>
            <a:ext cx="525780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?Por Que jugaban?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3809880" cy="51051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El juego de pelota era un oportunidad por los Mayas competir juntas o contras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Creyo ser un continuacion de religioso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Tambien jugaban para un ritual dificil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49" name="Picture 9" descr="aztec-calendar-mexican-history"/>
          <p:cNvPicPr/>
          <p:nvPr/>
        </p:nvPicPr>
        <p:blipFill>
          <a:blip r:embed="rId1"/>
          <a:stretch/>
        </p:blipFill>
        <p:spPr>
          <a:xfrm>
            <a:off x="4648320" y="2606760"/>
            <a:ext cx="3809880" cy="28620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440" y="762120"/>
            <a:ext cx="3808440" cy="53337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Las canchas estaban construidos como un ritual asi que solo podemos asumir que los juegos eran importante y no solo un juego para divertirse.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53" name="Picture 6" descr="http://0.tqn.com/d/ancienthistory/1/0/0/n/2/MayaBallCourt.jpg"/>
          <p:cNvPicPr/>
          <p:nvPr/>
        </p:nvPicPr>
        <p:blipFill>
          <a:blip r:embed="rId1"/>
          <a:stretch/>
        </p:blipFill>
        <p:spPr>
          <a:xfrm>
            <a:off x="4648320" y="1295280"/>
            <a:ext cx="4165560" cy="3124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El Resultado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219320"/>
            <a:ext cx="7772400" cy="3124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El resultado tuvo un efecto en todos los vidas de la gente de Maya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Ganadors era heroes y perdadors era sacrificio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Perdedors era mato porque los Mayas creia que todos los dias era una pelear contra buen y malo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6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7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58" name="Picture 6" descr="http://upload.wikimedia.org/wikipedia/commons/thumb/5/53/Codex_Magliabechiano_(141_cropped).jpg/300px-Codex_Magliabechiano_(141_cropped).jpg"/>
          <p:cNvPicPr/>
          <p:nvPr/>
        </p:nvPicPr>
        <p:blipFill>
          <a:blip r:embed="rId1"/>
          <a:stretch/>
        </p:blipFill>
        <p:spPr>
          <a:xfrm>
            <a:off x="6400800" y="4267080"/>
            <a:ext cx="2286000" cy="2408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66"/>
                </a:solidFill>
                <a:latin typeface="Verdana"/>
              </a:rPr>
              <a:t>Arquitectura Maya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218960"/>
            <a:ext cx="7772400" cy="23619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Verdana"/>
              </a:rPr>
              <a:t>Pirámides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ffff66"/>
                </a:solidFill>
                <a:latin typeface="Verdana"/>
              </a:rPr>
              <a:t>- habían edificios o iglesias encima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ffff66"/>
                </a:solidFill>
                <a:latin typeface="Verdana"/>
              </a:rPr>
              <a:t>- el juego de pelota era acerca de  las pirámides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63" name="Picture 5" descr="mayan pyramid 1.jpg"/>
          <p:cNvPicPr/>
          <p:nvPr/>
        </p:nvPicPr>
        <p:blipFill>
          <a:blip r:embed="rId1"/>
          <a:stretch/>
        </p:blipFill>
        <p:spPr>
          <a:xfrm>
            <a:off x="3657600" y="3733920"/>
            <a:ext cx="3533760" cy="2357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La Juego de Pelota Cancha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4193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Mira que una “I”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Lugar mas importante en toda la cuidad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Verdana"/>
              </a:rPr>
              <a:t>Rodeado de dos paredes de cemento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68" name="Picture 6" descr="mayan ball court.jpg"/>
          <p:cNvPicPr/>
          <p:nvPr/>
        </p:nvPicPr>
        <p:blipFill>
          <a:blip r:embed="rId1"/>
          <a:stretch/>
        </p:blipFill>
        <p:spPr>
          <a:xfrm>
            <a:off x="4932360" y="2359080"/>
            <a:ext cx="3711600" cy="553572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La Juego de pelota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Jugaron con dos personas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Necesitaron hacer la pelota en la aro con sus cuerpos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La aro era muy </a:t>
            </a:r>
            <a:r>
              <a:rPr b="0" lang="es-ES" sz="3200" spc="-1" strike="noStrike">
                <a:solidFill>
                  <a:srgbClr val="ffff66"/>
                </a:solidFill>
                <a:latin typeface="Verdana"/>
              </a:rPr>
              <a:t>alto de la tierra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1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73" name="Picture 6" descr="ball game hoop.jpg"/>
          <p:cNvPicPr/>
          <p:nvPr/>
        </p:nvPicPr>
        <p:blipFill>
          <a:blip r:embed="rId1"/>
          <a:stretch/>
        </p:blipFill>
        <p:spPr>
          <a:xfrm>
            <a:off x="6858000" y="3962520"/>
            <a:ext cx="1542960" cy="24526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4" name="Picture 7" descr="mayan players.jpg"/>
          <p:cNvPicPr/>
          <p:nvPr/>
        </p:nvPicPr>
        <p:blipFill>
          <a:blip r:embed="rId2"/>
          <a:stretch/>
        </p:blipFill>
        <p:spPr>
          <a:xfrm>
            <a:off x="4870440" y="1292400"/>
            <a:ext cx="3828960" cy="2219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6840" y="380880"/>
            <a:ext cx="3505320" cy="41911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Fue mas duro a hacer la pelota en la aro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Verdana"/>
              </a:rPr>
              <a:t>pelota de goma pesado aproximo nueve libras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78" name="Picture 5" descr="ball game ball.png"/>
          <p:cNvPicPr/>
          <p:nvPr/>
        </p:nvPicPr>
        <p:blipFill>
          <a:blip r:embed="rId1"/>
          <a:stretch/>
        </p:blipFill>
        <p:spPr>
          <a:xfrm>
            <a:off x="4443480" y="219240"/>
            <a:ext cx="3352680" cy="2006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ball game hoop height.jpg"/>
          <p:cNvPicPr/>
          <p:nvPr/>
        </p:nvPicPr>
        <p:blipFill>
          <a:blip r:embed="rId2"/>
          <a:stretch/>
        </p:blipFill>
        <p:spPr>
          <a:xfrm>
            <a:off x="2971800" y="4648320"/>
            <a:ext cx="3048120" cy="2028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0" name="Picture 8" descr="mayan player.png"/>
          <p:cNvPicPr/>
          <p:nvPr/>
        </p:nvPicPr>
        <p:blipFill>
          <a:blip r:embed="rId3"/>
          <a:stretch/>
        </p:blipFill>
        <p:spPr>
          <a:xfrm>
            <a:off x="6781680" y="2438280"/>
            <a:ext cx="1857600" cy="24577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380520" y="1143000"/>
            <a:ext cx="4038840" cy="44956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Verdana"/>
              </a:rPr>
              <a:t>Utilizado la cancha a estuidar los estrellas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ffff66"/>
                </a:solidFill>
                <a:latin typeface="Verdana"/>
              </a:rPr>
              <a:t>creían que pista los cielos 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Verdana"/>
              </a:rPr>
              <a:t>La Arquitectura de los mayas era muy avanzado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8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84" name="Picture 5" descr="pyramid snake.png"/>
          <p:cNvPicPr/>
          <p:nvPr/>
        </p:nvPicPr>
        <p:blipFill>
          <a:blip r:embed="rId1"/>
          <a:stretch/>
        </p:blipFill>
        <p:spPr>
          <a:xfrm>
            <a:off x="5114880" y="701640"/>
            <a:ext cx="3340080" cy="4473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mayan stars.jpg"/>
          <p:cNvPicPr/>
          <p:nvPr/>
        </p:nvPicPr>
        <p:blipFill>
          <a:blip r:embed="rId2"/>
          <a:stretch/>
        </p:blipFill>
        <p:spPr>
          <a:xfrm>
            <a:off x="5821200" y="3895560"/>
            <a:ext cx="2773440" cy="25117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9T19:16:28Z</dcterms:created>
  <dc:creator>Los Alamitos</dc:creator>
  <dc:description/>
  <dc:language>en-US</dc:language>
  <cp:lastModifiedBy>AJ Herrera</cp:lastModifiedBy>
  <dcterms:modified xsi:type="dcterms:W3CDTF">2012-01-22T21:08:26Z</dcterms:modified>
  <cp:revision>10</cp:revision>
  <dc:subject/>
  <dc:title>Las Canchas de Pelota</dc:title>
</cp:coreProperties>
</file>